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46F-46D0-45A7-87BD-1CBBEC74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B4E-C68A-4357-BEEA-2BC3E736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A11-2B45-4E4E-A8DF-6A38E9DB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EFD-D153-4115-8858-EA808ECB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71AF-4FAC-46DA-AE3F-3658900D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923A-A6DF-4B1A-930B-A6C7AF69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B8DF-DA67-4DFA-A813-D92AB0D1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D400-6A91-4F2B-B4A7-E50A483F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FD1F-C479-4F41-A1D8-DCD29543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E40B-D4A9-45E0-9805-19C3AA81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64E5-B61C-495F-BE2D-A090A143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0B4-7FA4-4271-B546-A5011FCA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D565-1769-4D49-B879-7770905A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3ECB-1C3E-44F2-9531-F92F176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4C0-C29D-40C7-8D69-12621FCF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946D-C0CC-401C-9E00-324CBBEE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A368-C748-4754-85AF-902CFBE2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EF396-E8EB-4FA1-9CA2-CCF4DBFA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3D3A3-9A1D-40AB-8A31-4E2E57A6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652ED-1E97-4F6D-B4E3-096C3A82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36A8A-8053-4669-BAE4-2A174DF7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2F2E2-0DAC-4674-B7A5-66A55592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FC2-228F-4CFA-81D6-EFA2B5A4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54994-5776-4DCE-8256-D2892D4E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944F6-4C11-40F0-8269-92FF083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E9890-73FA-4DEF-B1C6-8F34F9E8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A45E1-759C-4372-8851-DE7BE372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CE6CC-FC77-49B7-9706-8A05C983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39E99-263A-4782-9D80-68BD782A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77C76-8CD6-4466-B29D-437167AF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6B26D-D5AB-4959-A248-ACD257DD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9FFF4-C234-4237-834B-850143AE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D9AC-AC41-4750-9025-7442A348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28C-4A25-40A8-B546-A9D4C2DC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1286D-07D6-4752-BC44-7515CFB9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14D87-7492-490C-A402-AF391CA7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B9E2-94B5-4593-9735-5B6CC7FD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70FF-ABE1-4179-9D09-4C7B5786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AC120-342A-427F-AEE7-455FCF90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7BE53-51ED-45FC-9F8A-7C92FDD3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419E-8431-4108-AAD7-A2BA740D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79D8-24AC-4E73-A996-A10B128F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B7617-1774-4475-B50E-2F17FFDE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F8963-307C-4920-9815-CF3B7C53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231-2955-40B4-9357-B3454561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94A6D-5392-4021-A0AD-F4F58D7E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7A29A-39D0-49EA-85AA-94587C38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B6C44-668A-447C-B6D0-1B84CEF8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15FA8-3E49-4C63-8AC2-22F1844E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1B16A-B21B-40DF-8037-4C8DFDAD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683AF-2853-481B-906C-D1D8DAF7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8B36E-C88D-4FE1-98AF-5F1802E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D236D-FCCF-47D1-95A9-47CA2ACF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07CE6-B33C-4F86-A4D9-85002148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1968B-0FF6-41CB-91FE-25965DFA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4E8-1BE7-4680-91FD-15DEDB9C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E4C64-0C38-43F0-9BDF-62C43FA1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25367-2D6B-419F-AC67-4634071D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856ABC-3DD7-4012-BC0D-AC71770B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BA761-96A8-490A-8CD8-37A561F4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53FFF-DF7A-4C6D-8194-3F311805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300D9-9BFD-4A55-8CC2-596E83C1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DD628-0C02-40C4-BC0D-FAE44658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FD0A3-2926-47A5-99DA-D46B719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736EF-3838-4981-B8A5-E23BBED5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FE130-C20B-431A-A0A6-FD2BF978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D49-E557-4EBF-974F-D109CCE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5D7EE-A0CD-487F-B6FE-754B6E5B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32CCA-44F1-4DB0-8323-34836507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E5B70-4197-40E6-AA1F-92EA42C4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FA5A4-44C0-46E7-90DA-2203F6EF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6332F-8A92-44F0-8675-A0F7DE19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3E069-C6DF-4C53-8DC4-16B6DF19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6FFAA-4569-433F-99A5-105A32B9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D8867-A71F-4B44-B07B-D9A77276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74BB9-60AF-43FB-B2C6-F54B742B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627F0-8D5E-4793-A564-D065D1EB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9F4-7BDD-489A-8CBC-7B3A216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FC617-B88D-44D0-A346-48A24AC6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43C75-5DB3-46CC-8386-C2F56FF9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9FE19-C0E3-41AC-B637-4D1392C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BA7D7B-0DD6-4972-B542-327E3382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5A985-DEC8-4CBA-8A5E-4B67CA74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630-FDA0-4DE3-AE7D-DC99EA5D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30C4-B9FC-4C8D-AD81-2563F1E5F9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1E81-BC6A-490E-973A-07D5209538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7F4D-07C9-41CA-82AD-4C64D475B4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7c7c7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7c7c7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d6d7d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d6d7d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7d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d6d7d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7c7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7c7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241C-23E3-43C8-8D78-576077DF15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2FD9-B10C-4AC2-B54A-3310B0CB8F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40C5-790A-4B5A-A715-FE45E05256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7CAF-E45B-42AE-8AA7-FCF1C8EAE4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4456"/>
                </a:solidFill>
                <a:latin typeface="Century Schoolbook"/>
              </a:rPr>
              <a:t>GUESS THE DISTANCE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Century Schoolbook"/>
              </a:rPr>
              <a:t>By Amanda Cunha and Ashley Kershaw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2 SAMPLE T-TEST 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c/g =    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c/g       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213372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1905120" y="2057400"/>
                <a:ext cx="9525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6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213372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45338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ASSUMPT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22093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independent S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/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10n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g/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10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normal populations or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/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3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343400" y="1828440"/>
            <a:ext cx="3657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y were not SRS but was the best sample and both were independent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e are more than 1130 people with glasses/contacts and 720 people with neither in Montgomery County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/c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113) &gt; 3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(72) &gt;  3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89240" y="147996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375440" y="117504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2"/>
              <p:cNvSpPr txBox="1"/>
              <p:nvPr/>
            </p:nvSpPr>
            <p:spPr>
              <a:xfrm>
                <a:off x="1752480" y="3048120"/>
                <a:ext cx="865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1752480" y="3505320"/>
                <a:ext cx="865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1828800" y="457200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7" name="Text Placeholder 7"/>
          <p:cNvSpPr/>
          <p:nvPr/>
        </p:nvSpPr>
        <p:spPr>
          <a:xfrm>
            <a:off x="380880" y="6019920"/>
            <a:ext cx="7696440" cy="5331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onditions Met – Student t-distribution -2 sample t-te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ALCULATIONS AND CONCLUS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rcRect l="15000" t="25001" r="74376" b="70005"/>
          <a:stretch/>
        </p:blipFill>
        <p:spPr>
          <a:xfrm>
            <a:off x="2895480" y="2133720"/>
            <a:ext cx="2743200" cy="806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rcRect l="22269" t="34403" r="68521" b="57004"/>
          <a:stretch/>
        </p:blipFill>
        <p:spPr>
          <a:xfrm>
            <a:off x="3657600" y="2666880"/>
            <a:ext cx="1643040" cy="9144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0"/>
          <p:cNvSpPr/>
          <p:nvPr/>
        </p:nvSpPr>
        <p:spPr>
          <a:xfrm>
            <a:off x="563868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= 1.317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1523880" y="3733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P(t&gt;1.317  df=154.2590) = 0.19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Straight Connector 13"/>
          <p:cNvSpPr/>
          <p:nvPr/>
        </p:nvSpPr>
        <p:spPr>
          <a:xfrm>
            <a:off x="3276720" y="3733920"/>
            <a:ext cx="0" cy="457200"/>
          </a:xfrm>
          <a:prstGeom prst="line">
            <a:avLst/>
          </a:prstGeom>
          <a:ln w="1908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599840"/>
            <a:ext cx="2971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c/g =    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c/g       v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213372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5"/>
              <p:cNvSpPr txBox="1"/>
              <p:nvPr/>
            </p:nvSpPr>
            <p:spPr>
              <a:xfrm>
                <a:off x="213372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905120" y="2133720"/>
                <a:ext cx="804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0" name="TextBox 22"/>
          <p:cNvSpPr/>
          <p:nvPr/>
        </p:nvSpPr>
        <p:spPr>
          <a:xfrm>
            <a:off x="685800" y="47242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fail to reject Ho because the p-value of 0.19 is greater than  alpha 0.05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have sufficient evidence that the average distance guessed by those with glasses or contacts is equal to the average distance guessed by those without glasses or contact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2 SAMPLE T-TEST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c =    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c       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190512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5"/>
              <p:cNvSpPr txBox="1"/>
              <p:nvPr/>
            </p:nvSpPr>
            <p:spPr>
              <a:xfrm>
                <a:off x="190512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6"/>
              <p:cNvSpPr txBox="1"/>
              <p:nvPr/>
            </p:nvSpPr>
            <p:spPr>
              <a:xfrm>
                <a:off x="1676520" y="2057400"/>
                <a:ext cx="9525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4944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ASSUMPT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22093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independent S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10n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10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normal populations or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3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343400" y="2133720"/>
            <a:ext cx="3657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y were not SRS but was the best sample and both were independent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e are more than 500 people with glasses and 630 people with contacts in Montgomery Count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63) &gt; 3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(50) &gt;  3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89240" y="147996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375440" y="147996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1600200" y="304812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1600200" y="350532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1219320" y="457200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7" name="Text Placeholder 7"/>
          <p:cNvSpPr/>
          <p:nvPr/>
        </p:nvSpPr>
        <p:spPr>
          <a:xfrm>
            <a:off x="380880" y="6019920"/>
            <a:ext cx="7696440" cy="5331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onditions Met – Student t-distribution -2 sample t-te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ALCULATIONS AND CONCLUS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523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c =    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c       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190512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4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5"/>
              <p:cNvSpPr txBox="1"/>
              <p:nvPr/>
            </p:nvSpPr>
            <p:spPr>
              <a:xfrm>
                <a:off x="190512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6"/>
              <p:cNvSpPr txBox="1"/>
              <p:nvPr/>
            </p:nvSpPr>
            <p:spPr>
              <a:xfrm>
                <a:off x="1676520" y="2057400"/>
                <a:ext cx="9525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35" name="Picture 3" descr=""/>
          <p:cNvPicPr/>
          <p:nvPr/>
        </p:nvPicPr>
        <p:blipFill>
          <a:blip r:embed="rId1"/>
          <a:srcRect l="15000" t="25001" r="74376" b="70005"/>
          <a:stretch/>
        </p:blipFill>
        <p:spPr>
          <a:xfrm>
            <a:off x="2895480" y="2133720"/>
            <a:ext cx="2743200" cy="806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2"/>
          <a:srcRect l="22269" t="34403" r="68521" b="57004"/>
          <a:stretch/>
        </p:blipFill>
        <p:spPr>
          <a:xfrm>
            <a:off x="3657600" y="2666880"/>
            <a:ext cx="1643040" cy="9144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0"/>
          <p:cNvSpPr/>
          <p:nvPr/>
        </p:nvSpPr>
        <p:spPr>
          <a:xfrm>
            <a:off x="563868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= 0.30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TextBox 11"/>
          <p:cNvSpPr/>
          <p:nvPr/>
        </p:nvSpPr>
        <p:spPr>
          <a:xfrm>
            <a:off x="1523880" y="3733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P(t&gt;0.303  df=105.931) = 0.76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TextBox 12"/>
          <p:cNvSpPr/>
          <p:nvPr/>
        </p:nvSpPr>
        <p:spPr>
          <a:xfrm>
            <a:off x="685800" y="47242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fail to reject Ho because the p-value of 0.76 is greater than  alpha 0.05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have sufficient evidence that the average distance guessed by those with contacts is equal to the average distance guessed by those without glasse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Straight Connector 13"/>
          <p:cNvSpPr/>
          <p:nvPr/>
        </p:nvSpPr>
        <p:spPr>
          <a:xfrm>
            <a:off x="3276720" y="3733920"/>
            <a:ext cx="0" cy="457200"/>
          </a:xfrm>
          <a:prstGeom prst="line">
            <a:avLst/>
          </a:prstGeom>
          <a:ln w="1908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2 SAMPLE T-TEST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3"/>
              <p:cNvSpPr txBox="1"/>
              <p:nvPr/>
            </p:nvSpPr>
            <p:spPr>
              <a:xfrm>
                <a:off x="190512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4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5"/>
              <p:cNvSpPr txBox="1"/>
              <p:nvPr/>
            </p:nvSpPr>
            <p:spPr>
              <a:xfrm>
                <a:off x="190512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6"/>
              <p:cNvSpPr txBox="1"/>
              <p:nvPr/>
            </p:nvSpPr>
            <p:spPr>
              <a:xfrm>
                <a:off x="1752480" y="2057400"/>
                <a:ext cx="804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8" name="Content Placeholder 3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46483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ASSUMPT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228564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independent S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10n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10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normal populations or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3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343400" y="2133720"/>
            <a:ext cx="3657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y were not SRS but was the best sample and both were independent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e are more than 110 females and 750  males inMontgomery County 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110) &gt; 3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(75) &gt;  3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89240" y="147996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375440" y="1479960"/>
            <a:ext cx="3593520" cy="594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1600200" y="320040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1600200" y="3505320"/>
                <a:ext cx="865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1752480" y="4648320"/>
                <a:ext cx="865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7" name="Text Placeholder 7"/>
          <p:cNvSpPr/>
          <p:nvPr/>
        </p:nvSpPr>
        <p:spPr>
          <a:xfrm>
            <a:off x="380880" y="6019920"/>
            <a:ext cx="7696440" cy="5331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onditions Met – Student t-distribution -2 sample t-te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ALCULATIONS AND CONCLUSION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:    m =   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:    m       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2"/>
              <p:cNvSpPr txBox="1"/>
              <p:nvPr/>
            </p:nvSpPr>
            <p:spPr>
              <a:xfrm>
                <a:off x="114300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981080" y="16002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11430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5"/>
              <p:cNvSpPr txBox="1"/>
              <p:nvPr/>
            </p:nvSpPr>
            <p:spPr>
              <a:xfrm>
                <a:off x="2057400" y="2057400"/>
                <a:ext cx="1038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6"/>
              <p:cNvSpPr txBox="1"/>
              <p:nvPr/>
            </p:nvSpPr>
            <p:spPr>
              <a:xfrm>
                <a:off x="1752480" y="2057400"/>
                <a:ext cx="9525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65" name="Picture 3" descr=""/>
          <p:cNvPicPr/>
          <p:nvPr/>
        </p:nvPicPr>
        <p:blipFill>
          <a:blip r:embed="rId1"/>
          <a:srcRect l="15000" t="25001" r="74376" b="70005"/>
          <a:stretch/>
        </p:blipFill>
        <p:spPr>
          <a:xfrm>
            <a:off x="2895480" y="2133720"/>
            <a:ext cx="2743200" cy="8064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"/>
          <p:cNvPicPr/>
          <p:nvPr/>
        </p:nvPicPr>
        <p:blipFill>
          <a:blip r:embed="rId2"/>
          <a:srcRect l="22269" t="34403" r="68521" b="57004"/>
          <a:stretch/>
        </p:blipFill>
        <p:spPr>
          <a:xfrm>
            <a:off x="3657600" y="2666880"/>
            <a:ext cx="1643040" cy="9144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563868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= -0.37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523880" y="3733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P(t&lt;-0.376 df=81.7625) = 0.71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68580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fail to reject Ho because the p-value of 0.71 is greater than  alpha 0.05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-We have sufficient evidence that the average distance guessed by males is equal to the average distance guessed by female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Straight Connector 13"/>
          <p:cNvSpPr/>
          <p:nvPr/>
        </p:nvSpPr>
        <p:spPr>
          <a:xfrm>
            <a:off x="3352680" y="3733920"/>
            <a:ext cx="0" cy="457200"/>
          </a:xfrm>
          <a:prstGeom prst="line">
            <a:avLst/>
          </a:prstGeom>
          <a:ln w="19080">
            <a:solidFill>
              <a:srgbClr val="3a3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APPLICATION TO POPULATION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conclude that regardless of wearing contacts, glasses, or neither the people of Montgomery County do not show a significant difference in depth perception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can also conclude that there is not a difference in the depth perception of males and females in Montgomery Count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DESCRIPTION OF TOPIC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pth perception- the ability to judge how far away an object is as well as how far away objects are from each oth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glasses depth perception can be impaire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is because everything is simulated to be at the same distanc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also said contacts can affect ones depth perception as wel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BIAS/ ERROR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found that people in groups guessed similar to each other, so they may not have been saying the distance that they actually fel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people did not take us seriously and said a random number when we asked for the distance between the co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nce it was right after the holiday season, many people were in a rush and did not want to answer our ques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faced the problem of involuntary response because not everyone wanted to answer our question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PERSONAL OPINIONS/CONCLUSIONS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ur original hypothesis that there would be no difference in the depth perception of those with glasses, contacts, or neither was correc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felt that it was difficult to ask people to participate in our data collection when they were going in and out of the stor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verall it was interesting to see the wide variety of respons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BACKGROUND OF TOPIC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decided to test and see if there was a significant difference in the depth perception of those who wear glasses, contacts or neith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also wanted to test and see if there was a difference in the depth perception of females vs. m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6" descr="C:\Users\Amnda\AppData\Local\Microsoft\Windows\Temporary Internet Files\Content.IE5\XU6YH3EZ\MP900448376[1].jpg"/>
          <p:cNvPicPr/>
          <p:nvPr/>
        </p:nvPicPr>
        <p:blipFill>
          <a:blip r:embed="rId1"/>
          <a:stretch/>
        </p:blipFill>
        <p:spPr>
          <a:xfrm>
            <a:off x="5410080" y="34290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C:\Users\Amnda\AppData\Local\Microsoft\Windows\Temporary Internet Files\Content.IE5\0609KSNV\MP900314143[1].jpg"/>
          <p:cNvPicPr/>
          <p:nvPr/>
        </p:nvPicPr>
        <p:blipFill>
          <a:blip r:embed="rId2"/>
          <a:stretch/>
        </p:blipFill>
        <p:spPr>
          <a:xfrm>
            <a:off x="5410080" y="1523880"/>
            <a:ext cx="3048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PROCEDURE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put one cone next to us at Macy’s at the Montgomery Mal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measured 30 feet from the first cone and put a second cone ther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stood next to the door of Macy’s and as people entered or exited recorded…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53548a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d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53548a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lasses- if we could see th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53548a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f no glasses were visible asked if they wore contac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53548a"/>
              </a:buClr>
              <a:buSzPct val="8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f they did not wear contacts, we recorded neither glasses nor contac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asked them to stand at the first cone and guess how far away the second cone was and recorded their answer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went to Macy’s on Monday morning, Thursday afternoon, &amp; Sunday even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6" descr="http://t3.gstatic.com/images?q=tbn:ANd9GcR2Y86Key5TXsqv8B5p2JkNpckxR8Mghn0vAIrWujtyAvURXJs-HA"/>
          <p:cNvPicPr/>
          <p:nvPr/>
        </p:nvPicPr>
        <p:blipFill>
          <a:blip r:embed="rId1"/>
          <a:stretch/>
        </p:blipFill>
        <p:spPr>
          <a:xfrm>
            <a:off x="6629400" y="838080"/>
            <a:ext cx="2200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937040" cy="4032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6248520" y="2895480"/>
            <a:ext cx="1617480" cy="364968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EXPLORATORY DATA: CONTACTS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409720" y="1447560"/>
            <a:ext cx="344340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data is bimodal and slightly right skewed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median is at 34ft and the IQR is 15ft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range is 15ft to 60ft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re is a gap at 22ft and 55ft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648320" cy="3697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rcRect l="0" t="9676" r="0" b="0"/>
          <a:stretch/>
        </p:blipFill>
        <p:spPr>
          <a:xfrm>
            <a:off x="5486400" y="1371600"/>
            <a:ext cx="2952720" cy="4267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EXPLORATORY DATA: NEITHER CONTACTS NOR GLASSE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828800" y="5333760"/>
            <a:ext cx="2666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53548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data is unimodal and right skewed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spcBef>
                <a:spcPts val="601"/>
              </a:spcBef>
              <a:buClr>
                <a:srgbClr val="53548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median is 34ft and the IQR is 17ft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spcBef>
                <a:spcPts val="601"/>
              </a:spcBef>
              <a:buClr>
                <a:srgbClr val="53548a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range is 15ft to 59ft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946760" cy="4038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2286000" cy="41432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EXPLORATORY DATA: GLASSES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562360" y="49525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data is unimodal with a right skew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median is 35ft and the IQR is 20ft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he range is 15ft and 59 ft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SAMPLE POPULATION  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3265200" cy="2666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265560" cy="26668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91440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emales vs. Males at the Montgomery mall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5029200" y="4876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pulation of people with contacts, glasses, or neither in Montgomery Coun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ONCLUSIONS POPULATION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Montgomery County there is a greater population of people that wear neither glasses nor contacts. We then found that there is a greater number of people with contacts rather than glasses.  The glasses population is the minority in Montgomery Count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found that there are more females going to the mall than males, which was expected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6:44:53Z</dcterms:created>
  <dc:creator>Kershaw.A343</dc:creator>
  <dc:description/>
  <dc:language>en-US</dc:language>
  <cp:lastModifiedBy>Amanda</cp:lastModifiedBy>
  <dcterms:modified xsi:type="dcterms:W3CDTF">2011-01-10T02:22:29Z</dcterms:modified>
  <cp:revision>46</cp:revision>
  <dc:subject/>
  <dc:title>Slide 1</dc:title>
</cp:coreProperties>
</file>